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723-2815-4D62-90C6-617F2554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0E-834C-4113-AA30-262ECC76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924-DF13-4443-A398-6A28147C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C33-5E08-4E2F-BEB3-3120746D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CA8-FAD4-422C-BFE1-FFD2F383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B4D-26BB-4065-977F-A462FEA6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FBA-2860-4396-91A0-B38D6B47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475-42D7-48DF-91D1-10DFCB88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6D6-E37F-4898-8747-DCE21CC7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C55-ADCC-4B98-A148-23E57FAF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C7C-3FC6-4DEF-BC19-806911A2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096-06DB-4279-AA31-FAD3076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E0D73-E20A-4DA8-ABC1-9D03DD3A43D1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Sønderborg castle :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2000" y="20761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ndara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ndara"/>
              </a:rPr>
              <a:t>Christi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ndara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1800360"/>
            <a:ext cx="579888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The ca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DSCN0323" descr=""/>
          <p:cNvPicPr/>
          <p:nvPr/>
        </p:nvPicPr>
        <p:blipFill>
          <a:blip r:embed=""/>
          <a:stretch/>
        </p:blipFill>
        <p:spPr>
          <a:xfrm>
            <a:off x="5219640" y="1800360"/>
            <a:ext cx="4319640" cy="2270160"/>
          </a:xfrm>
          <a:prstGeom prst="rect">
            <a:avLst/>
          </a:prstGeom>
          <a:ln w="0">
            <a:noFill/>
          </a:ln>
        </p:spPr>
      </p:pic>
      <p:pic>
        <p:nvPicPr>
          <p:cNvPr id="50" name="DSCN0302" descr=""/>
          <p:cNvPicPr/>
          <p:nvPr/>
        </p:nvPicPr>
        <p:blipFill>
          <a:blip r:embed=""/>
          <a:stretch/>
        </p:blipFill>
        <p:spPr>
          <a:xfrm>
            <a:off x="5219640" y="4319640"/>
            <a:ext cx="431964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DSCN0303" descr=""/>
          <p:cNvPicPr/>
          <p:nvPr/>
        </p:nvPicPr>
        <p:blipFill>
          <a:blip r:embed=""/>
          <a:stretch/>
        </p:blipFill>
        <p:spPr>
          <a:xfrm>
            <a:off x="542880" y="4389480"/>
            <a:ext cx="4318200" cy="2449440"/>
          </a:xfrm>
          <a:prstGeom prst="rect">
            <a:avLst/>
          </a:prstGeom>
          <a:ln w="0">
            <a:noFill/>
          </a:ln>
        </p:spPr>
      </p:pic>
      <p:pic>
        <p:nvPicPr>
          <p:cNvPr id="52" name="DSCN0298" descr=""/>
          <p:cNvPicPr/>
          <p:nvPr/>
        </p:nvPicPr>
        <p:blipFill>
          <a:blip r:embed=""/>
          <a:stretch/>
        </p:blipFill>
        <p:spPr>
          <a:xfrm>
            <a:off x="539640" y="1800360"/>
            <a:ext cx="43196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unded: Ca.  1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ear 1852-1864 was it a danish bar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ear 1532-1559 was Christian 2. was a prisoner in the castle's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ear 1559 Queen Dorothea took over the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hen she died duke Hans took over the castle in year 15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oday is the castle a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Christia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28.July, he came in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 go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hen he was imprisoned, he was told that his son was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 sat in prison until he died in 15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e got one of the best rooms in the castle and he live almost a norma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Christia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360" y="180036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hen christian 2. was aprisoner on Soenderborg castle (1532-1549) he walked around the table and made a bigtrench arou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SCN0301" descr=""/>
          <p:cNvPicPr/>
          <p:nvPr/>
        </p:nvPicPr>
        <p:blipFill>
          <a:blip r:embed=""/>
          <a:stretch/>
        </p:blipFill>
        <p:spPr>
          <a:xfrm>
            <a:off x="539640" y="1760400"/>
            <a:ext cx="2160720" cy="4899240"/>
          </a:xfrm>
          <a:prstGeom prst="rect">
            <a:avLst/>
          </a:prstGeom>
          <a:ln w="0">
            <a:noFill/>
          </a:ln>
        </p:spPr>
      </p:pic>
      <p:pic>
        <p:nvPicPr>
          <p:cNvPr id="64" name="DSCN0300" descr=""/>
          <p:cNvPicPr/>
          <p:nvPr/>
        </p:nvPicPr>
        <p:blipFill>
          <a:blip r:embed=""/>
          <a:stretch/>
        </p:blipFill>
        <p:spPr>
          <a:xfrm>
            <a:off x="2701800" y="1800360"/>
            <a:ext cx="21574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8:12:18Z</dcterms:created>
  <dc:creator/>
  <dc:description/>
  <dc:language>en-US</dc:language>
  <cp:lastModifiedBy/>
  <dcterms:modified xsi:type="dcterms:W3CDTF">2010-05-26T08:28:37Z</dcterms:modified>
  <cp:revision>7</cp:revision>
  <dc:subject/>
  <dc:title/>
</cp:coreProperties>
</file>